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5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3.png" ContentType="image/png"/>
  <Override PartName="/ppt/media/image53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C289-45F4-4BF2-B812-BA4544A6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EA03-3F55-4179-AA14-BB5E1835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27B0-533D-4551-BFD6-F9F4A9B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7D43F-DB63-4DCC-A2EC-966A2D6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59642-8FDF-4BDB-B9AA-809E9E4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6F1F-E34E-4B74-B52E-90B1F39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71238-77F6-4442-861B-4AFEEF27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47AC-E4F5-4ED2-AF87-87141A1D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0DC40-6CF8-40D4-B60E-1539A88E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1DAB-BD67-446C-918D-66962396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68AD-5A32-4363-A25C-CCD8BF4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860C3-DFB2-4367-8180-F6266734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EFFF-E526-407C-BA53-E335300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85F32-C5CC-42B3-8B89-941AA8D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1521-C2EE-4534-A3FA-84B5FDD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A160-BEF8-41FB-A9F7-878DF3D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B44B4-8DD7-4BBE-890A-6522CF8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FD11-EF9A-4A29-A8AF-B29544FC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ED08-A007-4863-92A0-A3B5E91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26935-897D-4B29-BE7B-ED86A8B0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93BFA-1477-4440-8272-8FD148B2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E05C-8F49-47AD-A7AD-B26A1EEB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8783-FC7B-4807-BE66-B708582E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F859-D956-4526-B286-66216EC7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E48E5-4CF3-42EC-B546-025532A4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A5EC-75D6-4761-A6CD-E947D285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746EF-EAD8-4CFF-8486-03B3230B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0736-30E6-4A83-B5D0-4E0C40A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45D29-78A0-4C5D-BD3C-A611D06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059D-C593-435C-B40C-9FB4756A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8D0D4-5C2E-4F4F-9C40-D0FAE26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6F138-731A-4EA8-8990-63B9D50C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C55E0-36E7-4E42-B99F-E3E70275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96FE2-C68F-484C-9036-23BD658A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54FD-CAF7-4B09-A4F4-57B9F0D6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D797E-C350-43C3-AD43-F852F3B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4B319-22FF-4CD7-91C1-A0BD92B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60F47-42BE-4F5C-9085-B2371B19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CCB72-92C2-4727-975C-0DC02DB8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79B12-7168-43A4-8324-581F5BC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9851E-CA8A-432E-8A4D-5C8E54A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1AB70-9B28-4DC2-8801-50B2DC2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7E05-6645-4185-8039-F46A93B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8D046-5A29-4B25-8502-0F70A02E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334D3-062D-41EF-873E-6C57328A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2E21D-CF82-46AD-9A9B-FD565C98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25634-F416-45EE-834B-C4FD1B1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9A6D7-F2D4-4D0C-9334-2B61A4D7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990FE-2DAD-4680-9F97-810FE599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55CC1-A57D-4F51-9F49-C052D271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D709B-CCF0-4519-8FA8-0E8E2F18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37EB3-2A15-4921-AF18-B68A6138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A024-1125-4FB3-81F3-4973FDC1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AB3E2-47E7-467E-BC1D-84D0302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8B0F9-62D8-4B74-B2BE-6090A638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B7311-CADE-4C45-907F-17BDAA48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117C3-1BD6-4BC5-808D-60392C69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C17F5-95C4-4022-8140-63BB253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79B31-A38B-414C-8AFC-53B2E0D8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438ED-8162-4DAC-A826-7304224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E27B4-2A8D-4E0F-BA81-F6902A31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B5CA3-9FA2-4C99-914C-6BCB9FBE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D550B-95B3-4EF8-9AB8-5BD82C0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B8CBD-8CE1-45EC-8361-E931C9D9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71FA5-8E2B-4A42-9F6F-ED325C5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73AB7-0E1C-443F-A714-BF22A36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C0E5C-FEAC-4BC1-9101-F028726A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913C0-BA3F-4C28-994C-3D270602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1BF12-120A-432C-947C-96B7160D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5E66D-AEE4-4D9B-9AB2-8C95DB07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C19B7-2770-4F59-9355-9A4FAF0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5E30E-8753-4E29-865F-B8FA1D8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43D5E-0DD9-42F5-8724-38CC613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C8940-9F8C-4E53-AFEB-7B9EFCF1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057CB-BB8D-4795-90BD-ECD77C6E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A8271-1DBA-4EE9-85EE-7AF90368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DC2DB-8720-4065-8528-68208035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1420C-5535-4DD7-A666-EED4ACB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D6C9C-F0DC-4DFF-A8F2-11CCE641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6EBB6-5ADE-406E-853C-E81BC9EE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4BA86-6D79-45AF-A16A-97B24525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A6BA6-C41F-4E1A-B291-DA62C3FB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4CAC8-3AD6-4B88-8533-B3BAAEF9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75DFD-2D51-4EDF-BD83-2903349C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90762-AF46-43E6-BD93-894F660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9BA96-139F-4239-90AB-B323F096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AB42F-01B9-44B7-BB77-21602E10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D77B5-31AE-42F0-B15F-6F615279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0E877-50BD-4D75-8948-C7A40D0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3A626-6811-4FBD-A994-EB5D06D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6A1B0-CFA4-4167-B4EE-67C6735F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E0F46-4D1A-450A-9001-19C12176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A7052-17C3-4983-B3E2-E9B6E231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BB257-71A7-48F0-BC4B-FA54A57C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5E291-F18C-4EED-9E96-525B7A74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28276-3AFC-45AB-ADBA-A67A9C92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18687-F1C4-441D-8832-B7937BB0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44793-DCBC-4AD4-973F-ACE5ECC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1098E-B0DE-41E8-9E53-461B67B4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EBB82-AF56-474F-B873-284127BD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EA1B7-96C1-465A-AC24-E3C8DD1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A66B-BD2E-4A08-B501-A51E654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F63D7-CB29-40ED-818E-80B3D94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F6625-8584-42F0-8EB1-CCB6AD03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14EE9-DF1F-4AF0-B3A6-860721BC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1A243-7A51-41E2-B3B4-971AC5A1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57FB6-B6AA-4201-A85D-EC8E94B2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6391D-CBE5-4513-91A7-48014304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ABF3AA-D3E2-440C-A6A2-AD2727F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81741-5BF4-414D-A162-A5BEA4A6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28DB7-B5A4-4669-A942-7F77B3E3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390F2-EDC5-4E8E-9A60-48D848A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5924B-0A24-4D1A-8CB0-0E49435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DD7E4-C4C5-4F46-9928-FD506613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AFB76-2A45-4B3A-8385-820FC77D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97583-B930-4E47-B89E-7D72CCCE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F09E6-76CD-4F9C-8BBD-AEA3FF87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7EFDB-36EF-4506-BF48-E9A3AEC6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A9AFED-F362-434C-876D-06BEF703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CFDA6-9100-4A53-9299-8795D80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47433-A1D3-4449-A8AF-8AC3D3C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53268-6BB7-4FCB-89BF-3F159712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086C25-A19B-461A-8E87-C912DF9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3C3E5-A1E9-41C8-9CA1-BF9D88E5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FB57B-D80B-4372-B063-B573F678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93CF3-BB17-4D53-A0CD-FAB85534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6408D-FEE5-4D78-9974-E341733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5EC75-3949-4EDF-95B2-ECCF2207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D9C14-3DD1-4645-BBD2-94130D6C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646-5BA3-4FB6-98F8-202C6C74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8E5-4474-4AF1-A7EE-632EB631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7CA-B849-4AF7-97A3-C8FC884A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3B7-F406-462E-988A-95241675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F65-E494-4210-8317-C633E4EA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8BE-A1D2-4122-8B19-42C900AC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318-D704-4ABC-9985-83E2482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EDB-98CF-4A0F-AFEC-1D21CB8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E6A-D03E-4D52-972A-37C23F1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1AC-AF7D-4777-B429-D913B39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5A2-5690-42F7-97BD-07D74FD6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DF3-71F9-4325-ADA8-34D6797B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AE9-0ACC-4CA8-870F-0D9B5966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12E-3A66-48AE-A8BF-831C0276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33D-C3ED-4706-A4FD-B162372D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3A3B-0F11-4CE9-A4D3-78DDB272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F6F9-5A34-4FA6-B00B-093D1B9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DA69-5B96-473B-AE24-5D63A83E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9760-9DD4-4F0E-B3A2-B7335BA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7900-3D69-48FC-B242-DFA99075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72F1-51DB-4461-97B4-A3C0DD9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0671-3DBE-4705-8BA2-9E97E311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98D4-AD28-4054-8874-7932A9C6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6294-44FD-44A3-B525-CBBC3CFD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E5D9-E1EB-47A8-A9A8-DE56DDB2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FCBF-DE26-420D-BC48-E11784C7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D329-882C-4E41-AEA3-1AC3C16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90F6-1DB3-40DF-A211-3C698660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D263-D917-44C2-92AE-1797503D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0CE2-18DD-4815-88F4-32EC172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C189-C292-45C9-A203-4C1D7D5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AFEE-C163-4F9D-935F-61DD046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3876-2CF6-467F-86D6-E25AFC01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220A-744E-4276-B3CD-4CA4F651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09EE-373B-4706-82F0-9AF590CF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98B1-2F33-4020-9AE3-1A178C31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BD2E-D94E-4B3D-AF5C-DC0EA661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C7F2-E50F-4155-95A8-E46D4624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A7890-9D98-405A-AE55-26E4D248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4AB89-8DCB-4747-9370-63F2058E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7368-4110-46BD-A446-B7A7E9DE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F6EA-34EF-4680-B97D-933E5936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3438-169F-4E82-9855-3C43EC8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5C35-0903-4148-8600-67338A9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544D-F52E-47E2-B53C-71565732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2A4C-EDAD-440F-AA69-4D44049B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6C63-50C1-45C1-A3C3-65F1895E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217E-FAB1-4897-99BA-5C7C984C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FFDDE-696A-4711-91CD-B936C227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1FFC-8152-4A36-AAF8-E11BC3C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302B-A6FE-487B-B9EA-01921D5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02F5F-BCB0-4C93-BD3E-44CDC6D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61D2-B9F3-4078-B973-5CFDCEB8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0F4B3-70CD-484B-8F8B-AC45EE12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94E79-77A3-48BF-8D52-F599D6BD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BBB9E-7AF6-4A97-A18D-9393406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5D42-2EE1-4F7D-A8BB-11B1372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DBAF-0350-4A25-989B-5AF26E5D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C546-792D-4AFC-A1CC-DDF3C20D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5094-47B1-4B7A-BB54-9C62F47A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B96F-F1CD-4421-BB28-DD795A53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563D-6E10-43F4-ADF5-1C04910C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4541D-9796-4459-91A1-CC65DBEB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2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3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982A-5FD2-434E-859B-99309953E0F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79B2-A4C1-4B4E-B863-45E808FB4B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DA0-8DAB-4F69-8ED9-66D66AA8B15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F4B1-6BB1-48D2-A1B8-206DA1F3101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6F3E-6EB2-4DA7-8020-FE3B059B2AA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2D39-7C49-4042-81FD-D9E6830D6BF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EF82-B24A-4255-97B0-DC995AB3D56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AA7-6E68-466E-8EEC-E12FE530160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6197-7794-4C9B-AE45-DA45B9C4CBE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298F-F4FA-4381-905A-7F83360CDA1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44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45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86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87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13A4-BC15-40A0-907A-9FF3E673F2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169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170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2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D34-2578-403A-8119-E852EDEC7DF6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214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215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7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4A9-9646-4CAF-9311-2A6AE3E5D5BE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3"/>
          <p:cNvSpPr/>
          <p:nvPr/>
        </p:nvSpPr>
        <p:spPr>
          <a:xfrm>
            <a:off x="138240" y="163440"/>
            <a:ext cx="8853480" cy="6580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14"/>
          <p:cNvGrpSpPr/>
          <p:nvPr/>
        </p:nvGrpSpPr>
        <p:grpSpPr>
          <a:xfrm>
            <a:off x="-63360" y="190440"/>
            <a:ext cx="1228320" cy="566280"/>
            <a:chOff x="-63360" y="190440"/>
            <a:chExt cx="1228320" cy="566280"/>
          </a:xfrm>
        </p:grpSpPr>
        <p:grpSp>
          <p:nvGrpSpPr>
            <p:cNvPr id="259" name="Группа 8"/>
            <p:cNvGrpSpPr/>
            <p:nvPr/>
          </p:nvGrpSpPr>
          <p:grpSpPr>
            <a:xfrm>
              <a:off x="203040" y="190440"/>
              <a:ext cx="712800" cy="483840"/>
              <a:chOff x="203040" y="190440"/>
              <a:chExt cx="712800" cy="483840"/>
            </a:xfrm>
          </p:grpSpPr>
          <p:pic>
            <p:nvPicPr>
              <p:cNvPr id="260" name="Рисуно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040" y="295200"/>
                <a:ext cx="712800" cy="37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Рисуно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38400" y="190440"/>
                <a:ext cx="443160" cy="24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Поле 13" descr=""/>
            <p:cNvPicPr/>
            <p:nvPr/>
          </p:nvPicPr>
          <p:blipFill>
            <a:blip r:embed="rId4"/>
            <a:stretch/>
          </p:blipFill>
          <p:spPr>
            <a:xfrm>
              <a:off x="-63360" y="355320"/>
              <a:ext cx="1228320" cy="40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9865-3803-4A5A-9ACA-7CE6E242A0E1}" type="slidenum">
              <a:rPr b="0" lang="ru-RU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D158-696D-41A1-B284-6760DAE3542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5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0A6-BFA6-499A-8B31-9EA642DF053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6" name="Picture 2" descr="Свердл"/>
          <p:cNvPicPr/>
          <p:nvPr/>
        </p:nvPicPr>
        <p:blipFill>
          <a:blip r:embed="rId1"/>
          <a:stretch/>
        </p:blipFill>
        <p:spPr>
          <a:xfrm>
            <a:off x="3924360" y="1182600"/>
            <a:ext cx="4753080" cy="5448240"/>
          </a:xfrm>
          <a:prstGeom prst="rect">
            <a:avLst/>
          </a:prstGeom>
          <a:ln w="0">
            <a:noFill/>
          </a:ln>
        </p:spPr>
      </p:pic>
      <p:sp>
        <p:nvSpPr>
          <p:cNvPr id="797" name="Заголовок 1"/>
          <p:cNvSpPr/>
          <p:nvPr/>
        </p:nvSpPr>
        <p:spPr>
          <a:xfrm>
            <a:off x="1370160" y="3336840"/>
            <a:ext cx="6913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ЕЯТЕЛЬНОСТЬ КОМИССИЙ ПО СОБЛЮДЕНИЮ ТРЕБОВАНИЙ К СЛУЖЕБНОМУ ПОВЕДЕН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 УРЕГУЛИРОВАНИЮ КОНФЛИКТА ИНТЕРЕСОВ, ОБРАЗОВАННЫХ В ВЫСШЕМ ИСПОЛНИТЕЛЬНОМ ОРГАНЕ ГОСУДАРСТВЕННОЙ ВЛАСТИ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8" name="Picture 12" descr="http://sila-mesta.ru/wp-content/uploads/2017/09/13.jpg"/>
          <p:cNvPicPr/>
          <p:nvPr/>
        </p:nvPicPr>
        <p:blipFill>
          <a:blip r:embed="rId2"/>
          <a:stretch/>
        </p:blipFill>
        <p:spPr>
          <a:xfrm>
            <a:off x="162000" y="189000"/>
            <a:ext cx="4432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0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801" name="Прямая соединительная линия 2"/>
          <p:cNvSpPr/>
          <p:nvPr/>
        </p:nvSpPr>
        <p:spPr>
          <a:xfrm>
            <a:off x="1692360" y="90792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Прямая соединительная линия 11"/>
          <p:cNvSpPr/>
          <p:nvPr/>
        </p:nvSpPr>
        <p:spPr>
          <a:xfrm>
            <a:off x="1692360" y="98100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Заголовок 1"/>
          <p:cNvSpPr/>
          <p:nvPr/>
        </p:nvSpPr>
        <p:spPr>
          <a:xfrm>
            <a:off x="1692360" y="189000"/>
            <a:ext cx="7315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РАБОЧИЕ ГРУППЫ КОМИССИИ ПО КООРДИНАЦИИ РАБОТЫ П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ПРОТИВОДЕЙСТВИЯ КОРРУПЦИИ В 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5" name="Picture 11" descr=""/>
          <p:cNvPicPr/>
          <p:nvPr/>
        </p:nvPicPr>
        <p:blipFill>
          <a:blip r:embed="rId2"/>
          <a:stretch/>
        </p:blipFill>
        <p:spPr>
          <a:xfrm>
            <a:off x="2987640" y="1009800"/>
            <a:ext cx="3505320" cy="834840"/>
          </a:xfrm>
          <a:prstGeom prst="rect">
            <a:avLst/>
          </a:prstGeom>
          <a:ln w="0">
            <a:noFill/>
          </a:ln>
        </p:spPr>
      </p:pic>
      <p:grpSp>
        <p:nvGrpSpPr>
          <p:cNvPr id="806" name="Скругленный прямоугольник 12"/>
          <p:cNvGrpSpPr/>
          <p:nvPr/>
        </p:nvGrpSpPr>
        <p:grpSpPr>
          <a:xfrm>
            <a:off x="2382840" y="1785960"/>
            <a:ext cx="4432320" cy="1176480"/>
            <a:chOff x="2382840" y="1785960"/>
            <a:chExt cx="4432320" cy="1176480"/>
          </a:xfrm>
        </p:grpSpPr>
        <p:pic>
          <p:nvPicPr>
            <p:cNvPr id="807" name="Скругленный 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382840" y="1785960"/>
              <a:ext cx="443232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2495520" y="1876320"/>
              <a:ext cx="421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ОМИССИЯ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КООРДИНАЦИИ РАБОТЫ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ПРОТИВОДЕЙСТВИЮ КОРРУПЦИ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В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09" name="Скругленный прямоугольник 13"/>
          <p:cNvGrpSpPr/>
          <p:nvPr/>
        </p:nvGrpSpPr>
        <p:grpSpPr>
          <a:xfrm>
            <a:off x="3736800" y="3187800"/>
            <a:ext cx="5334120" cy="3573360"/>
            <a:chOff x="3736800" y="3187800"/>
            <a:chExt cx="5334120" cy="3573360"/>
          </a:xfrm>
        </p:grpSpPr>
        <p:pic>
          <p:nvPicPr>
            <p:cNvPr id="810" name="Скругленный 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3736800" y="3187800"/>
              <a:ext cx="533412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3968640" y="3398760"/>
              <a:ext cx="4870440" cy="31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БОЧАЯ ГРУПП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омиссии по координации работы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противодействию коррупции в Свердловской области по рассмотрению вопросов, касающихся соблюдения требований к должностному поведению лиц, замещающих муниципальные должност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в муниципальных образованиях, расположенных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 территории Свердловской области, и материалов проверки достоверности и полноты сведени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о доходах, расходах, об имуществе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и обязательствах имущественного характера, представленных лицами, замещающими муниципальные должности и должности глав местных администраций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контракту в муниципальных образованиях, расположенных на территории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2" name="Скругленный прямоугольник 15"/>
          <p:cNvGrpSpPr/>
          <p:nvPr/>
        </p:nvGrpSpPr>
        <p:grpSpPr>
          <a:xfrm>
            <a:off x="189000" y="3187800"/>
            <a:ext cx="3504960" cy="2921040"/>
            <a:chOff x="189000" y="3187800"/>
            <a:chExt cx="3504960" cy="2921040"/>
          </a:xfrm>
        </p:grpSpPr>
        <p:pic>
          <p:nvPicPr>
            <p:cNvPr id="813" name="Скругленный 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189000" y="3187800"/>
              <a:ext cx="350496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387360" y="3367080"/>
              <a:ext cx="3112920" cy="25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БОЧАЯ ГРУПП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омиссии по координации работы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противодействию коррупции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в Свердловской области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рассмотрению вопросов, касающихся соблюдения требований к должностному поведению лиц, замещающих государственные должности Свердловской области, и урегулирования конфликта интерес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5" name="Стрелка вниз 16"/>
          <p:cNvGrpSpPr/>
          <p:nvPr/>
        </p:nvGrpSpPr>
        <p:grpSpPr>
          <a:xfrm>
            <a:off x="6308640" y="2657520"/>
            <a:ext cx="725400" cy="768240"/>
            <a:chOff x="6308640" y="2657520"/>
            <a:chExt cx="725400" cy="768240"/>
          </a:xfrm>
        </p:grpSpPr>
        <p:pic>
          <p:nvPicPr>
            <p:cNvPr id="816" name="Стрелка вниз 16" descr=""/>
            <p:cNvPicPr/>
            <p:nvPr/>
          </p:nvPicPr>
          <p:blipFill>
            <a:blip r:embed="rId6"/>
            <a:stretch/>
          </p:blipFill>
          <p:spPr>
            <a:xfrm>
              <a:off x="6308640" y="2657520"/>
              <a:ext cx="725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6583320" y="2820960"/>
              <a:ext cx="179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18" name="Стрелка вниз 17"/>
          <p:cNvGrpSpPr/>
          <p:nvPr/>
        </p:nvGrpSpPr>
        <p:grpSpPr>
          <a:xfrm>
            <a:off x="2676600" y="2657520"/>
            <a:ext cx="725400" cy="768240"/>
            <a:chOff x="2676600" y="2657520"/>
            <a:chExt cx="725400" cy="768240"/>
          </a:xfrm>
        </p:grpSpPr>
        <p:pic>
          <p:nvPicPr>
            <p:cNvPr id="819" name="Стрелка вниз 17" descr=""/>
            <p:cNvPicPr/>
            <p:nvPr/>
          </p:nvPicPr>
          <p:blipFill>
            <a:blip r:embed="rId7"/>
            <a:stretch/>
          </p:blipFill>
          <p:spPr>
            <a:xfrm>
              <a:off x="2676600" y="2657520"/>
              <a:ext cx="725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2948040" y="2824200"/>
              <a:ext cx="179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21" name="Picture 10" descr=""/>
          <p:cNvPicPr/>
          <p:nvPr/>
        </p:nvPicPr>
        <p:blipFill>
          <a:blip r:embed="rId8"/>
          <a:stretch/>
        </p:blipFill>
        <p:spPr>
          <a:xfrm>
            <a:off x="233280" y="1506600"/>
            <a:ext cx="2003400" cy="1333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2" descr=""/>
          <p:cNvPicPr/>
          <p:nvPr/>
        </p:nvPicPr>
        <p:blipFill>
          <a:blip r:embed="rId9"/>
          <a:stretch/>
        </p:blipFill>
        <p:spPr>
          <a:xfrm>
            <a:off x="6945480" y="1433520"/>
            <a:ext cx="2085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4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825" name="Прямая соединительная линия 2"/>
          <p:cNvSpPr/>
          <p:nvPr/>
        </p:nvSpPr>
        <p:spPr>
          <a:xfrm>
            <a:off x="1698480" y="131760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Прямая соединительная линия 11"/>
          <p:cNvSpPr/>
          <p:nvPr/>
        </p:nvSpPr>
        <p:spPr>
          <a:xfrm>
            <a:off x="1698480" y="141300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Заголовок 1"/>
          <p:cNvSpPr/>
          <p:nvPr/>
        </p:nvSpPr>
        <p:spPr>
          <a:xfrm>
            <a:off x="1325520" y="255600"/>
            <a:ext cx="7842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ГОСУДАРСТВЕННЫЕ ДОЛЖНОСТ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СВЕРДЛОВСКОЙ ОБЛАСТ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8" name="Скругленный прямоугольник 9"/>
          <p:cNvGrpSpPr/>
          <p:nvPr/>
        </p:nvGrpSpPr>
        <p:grpSpPr>
          <a:xfrm>
            <a:off x="1987560" y="1481040"/>
            <a:ext cx="5681520" cy="1146240"/>
            <a:chOff x="1987560" y="1481040"/>
            <a:chExt cx="5681520" cy="1146240"/>
          </a:xfrm>
        </p:grpSpPr>
        <p:pic>
          <p:nvPicPr>
            <p:cNvPr id="829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1987560" y="1481040"/>
              <a:ext cx="56815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"/>
            <p:cNvSpPr/>
            <p:nvPr/>
          </p:nvSpPr>
          <p:spPr>
            <a:xfrm>
              <a:off x="2098800" y="1569960"/>
              <a:ext cx="544824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УКОВОДИТЕЛЬ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Губернатора Свердловской области – Руководитель Аппара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1" name="Скругленный прямоугольник 12"/>
          <p:cNvGrpSpPr/>
          <p:nvPr/>
        </p:nvGrpSpPr>
        <p:grpSpPr>
          <a:xfrm>
            <a:off x="212760" y="2590920"/>
            <a:ext cx="3730680" cy="1536480"/>
            <a:chOff x="212760" y="2590920"/>
            <a:chExt cx="3730680" cy="1536480"/>
          </a:xfrm>
        </p:grpSpPr>
        <p:pic>
          <p:nvPicPr>
            <p:cNvPr id="832" name="Скругленный 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12760" y="2590920"/>
              <a:ext cx="3730680" cy="15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>
              <a:off x="344520" y="2697120"/>
              <a:ext cx="346860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МЕСТИТЕЛЬ РУКОВОДИТЕЛЯ РАБОЧЕЙ ГРУППЫ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Директор Департамента кадровой политики и контроля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4" name="Скругленный прямоугольник 13"/>
          <p:cNvGrpSpPr/>
          <p:nvPr/>
        </p:nvGrpSpPr>
        <p:grpSpPr>
          <a:xfrm>
            <a:off x="6729480" y="4968720"/>
            <a:ext cx="2354040" cy="1322640"/>
            <a:chOff x="6729480" y="4968720"/>
            <a:chExt cx="2354040" cy="1322640"/>
          </a:xfrm>
        </p:grpSpPr>
        <p:pic>
          <p:nvPicPr>
            <p:cNvPr id="835" name="Скругленный 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6729480" y="4968720"/>
              <a:ext cx="235404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6850080" y="5072040"/>
              <a:ext cx="21114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инистр общественной безопасности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37" name="Скругленный прямоугольник 15"/>
          <p:cNvGrpSpPr/>
          <p:nvPr/>
        </p:nvGrpSpPr>
        <p:grpSpPr>
          <a:xfrm>
            <a:off x="146160" y="4950000"/>
            <a:ext cx="2359080" cy="1322280"/>
            <a:chOff x="146160" y="4950000"/>
            <a:chExt cx="2359080" cy="1322280"/>
          </a:xfrm>
        </p:grpSpPr>
        <p:pic>
          <p:nvPicPr>
            <p:cNvPr id="838" name="Скругленный 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146160" y="4950000"/>
              <a:ext cx="23590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264960" y="5052960"/>
              <a:ext cx="21193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оветник Губернатор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0" name="Скругленный прямоугольник 16"/>
          <p:cNvGrpSpPr/>
          <p:nvPr/>
        </p:nvGrpSpPr>
        <p:grpSpPr>
          <a:xfrm>
            <a:off x="2494080" y="4943520"/>
            <a:ext cx="4217760" cy="1878120"/>
            <a:chOff x="2494080" y="4943520"/>
            <a:chExt cx="4217760" cy="1878120"/>
          </a:xfrm>
        </p:grpSpPr>
        <p:pic>
          <p:nvPicPr>
            <p:cNvPr id="841" name="Скругленный 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2494080" y="4943520"/>
              <a:ext cx="421776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2641680" y="5073480"/>
              <a:ext cx="392580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Руководителя Аппара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Директор Государственно-правового департамента Губернатора Свердловской области и Правительств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3" name="Скругленный прямоугольник 17"/>
          <p:cNvGrpSpPr/>
          <p:nvPr/>
        </p:nvGrpSpPr>
        <p:grpSpPr>
          <a:xfrm>
            <a:off x="2840040" y="4108320"/>
            <a:ext cx="3726000" cy="768600"/>
            <a:chOff x="2840040" y="4108320"/>
            <a:chExt cx="3726000" cy="768600"/>
          </a:xfrm>
        </p:grpSpPr>
        <p:pic>
          <p:nvPicPr>
            <p:cNvPr id="844" name="Скругленный 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2840040" y="4108320"/>
              <a:ext cx="37260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"/>
            <p:cNvSpPr/>
            <p:nvPr/>
          </p:nvSpPr>
          <p:spPr>
            <a:xfrm>
              <a:off x="2930400" y="4181400"/>
              <a:ext cx="35402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ЧЛЕНЫ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46" name="Скругленный прямоугольник 18"/>
          <p:cNvGrpSpPr/>
          <p:nvPr/>
        </p:nvGrpSpPr>
        <p:grpSpPr>
          <a:xfrm>
            <a:off x="4638600" y="2577960"/>
            <a:ext cx="4444920" cy="1560600"/>
            <a:chOff x="4638600" y="2577960"/>
            <a:chExt cx="4444920" cy="1560600"/>
          </a:xfrm>
        </p:grpSpPr>
        <p:pic>
          <p:nvPicPr>
            <p:cNvPr id="847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4638600" y="2577960"/>
              <a:ext cx="44449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4767120" y="2690640"/>
              <a:ext cx="418464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ЕКРЕТАРЬ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директора Департамента кадровой политики и контроля Губернатора Свердловской области и Правительства Свердловской области – начальник управления по профилактике коррупционных и иных правонарушени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0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851" name="Прямая соединительная линия 2"/>
          <p:cNvSpPr/>
          <p:nvPr/>
        </p:nvSpPr>
        <p:spPr>
          <a:xfrm>
            <a:off x="1670040" y="119700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Прямая соединительная линия 11"/>
          <p:cNvSpPr/>
          <p:nvPr/>
        </p:nvSpPr>
        <p:spPr>
          <a:xfrm>
            <a:off x="1670040" y="130176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Заголовок 1"/>
          <p:cNvSpPr/>
          <p:nvPr/>
        </p:nvSpPr>
        <p:spPr>
          <a:xfrm>
            <a:off x="1274760" y="152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ГОСУДАРСТВЕННЫЕ ДОЛЖНОСТ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СВЕРДЛОВСКОЙ ОБЛАСТИ, И УРЕГУЛИРОВАНИЯ КОНФЛИКТА ИНТЕРЕС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5" name="Прямоугольник 8"/>
          <p:cNvGrpSpPr/>
          <p:nvPr/>
        </p:nvGrpSpPr>
        <p:grpSpPr>
          <a:xfrm>
            <a:off x="23760" y="1352520"/>
            <a:ext cx="4554720" cy="1025640"/>
            <a:chOff x="23760" y="1352520"/>
            <a:chExt cx="4554720" cy="1025640"/>
          </a:xfrm>
        </p:grpSpPr>
        <p:pic>
          <p:nvPicPr>
            <p:cNvPr id="85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3760" y="1352520"/>
              <a:ext cx="455472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179280" y="1482840"/>
              <a:ext cx="42483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Перечень лиц, в отношении которых Рабочая группа рассматривает материал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58" name="Прямоугольник 1"/>
          <p:cNvSpPr/>
          <p:nvPr/>
        </p:nvSpPr>
        <p:spPr>
          <a:xfrm>
            <a:off x="179280" y="2349360"/>
            <a:ext cx="4392720" cy="40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11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ц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, замещающих государственные должности Свердловской области, из ни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25 лиц - в Правительстве Свердловской обла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8 лиц - Счетной палате Свердловской обла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4 лица – в Избирательной комиссии Свердловской обла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69 председателей территориальных избирательных комиссий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4 судьи Уставного Суда Свердловской обла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Уполномоченный по правам человека 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в Свердловской област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Уполномоченный по правам ребенка </a:t>
            </a:r>
            <a:br>
              <a:rPr sz="1400"/>
            </a:b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в Свердловской обла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17460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Calibri"/>
              </a:rPr>
              <a:t>Уполномоченный по защите прав предпринимателей в Свердловской област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9" name="Прямоугольник 12"/>
          <p:cNvGrpSpPr/>
          <p:nvPr/>
        </p:nvGrpSpPr>
        <p:grpSpPr>
          <a:xfrm>
            <a:off x="4675320" y="1352520"/>
            <a:ext cx="4151160" cy="1025640"/>
            <a:chOff x="4675320" y="1352520"/>
            <a:chExt cx="4151160" cy="1025640"/>
          </a:xfrm>
        </p:grpSpPr>
        <p:pic>
          <p:nvPicPr>
            <p:cNvPr id="860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675320" y="1352520"/>
              <a:ext cx="415116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4827600" y="1482840"/>
              <a:ext cx="384804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Количество заседаний Рабочей групп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в 2016- 2018 году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2" name="Прямая соединительная линия 13"/>
          <p:cNvSpPr/>
          <p:nvPr/>
        </p:nvSpPr>
        <p:spPr>
          <a:xfrm>
            <a:off x="4716360" y="1844640"/>
            <a:ext cx="0" cy="4575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Прямоугольник 4"/>
          <p:cNvSpPr/>
          <p:nvPr/>
        </p:nvSpPr>
        <p:spPr>
          <a:xfrm>
            <a:off x="4826160" y="2427120"/>
            <a:ext cx="404316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2016 году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сед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2017 году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сед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2018 году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сед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4" name="Picture 10" descr="https://s.ura.news/760/images/news/upload/news/241/020/1052241020/129829_Klipart_raznoe_rezidentsiya_gubernatora_SO_250x0_5271.2969.0.0.jpg"/>
          <p:cNvPicPr/>
          <p:nvPr/>
        </p:nvPicPr>
        <p:blipFill>
          <a:blip r:embed="rId4"/>
          <a:stretch/>
        </p:blipFill>
        <p:spPr>
          <a:xfrm>
            <a:off x="4965840" y="3933720"/>
            <a:ext cx="35715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6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867" name="Прямая соединительная линия 2"/>
          <p:cNvSpPr/>
          <p:nvPr/>
        </p:nvSpPr>
        <p:spPr>
          <a:xfrm>
            <a:off x="1692360" y="119700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Прямая соединительная линия 11"/>
          <p:cNvSpPr/>
          <p:nvPr/>
        </p:nvSpPr>
        <p:spPr>
          <a:xfrm>
            <a:off x="1709640" y="128736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Заголовок 1"/>
          <p:cNvSpPr/>
          <p:nvPr/>
        </p:nvSpPr>
        <p:spPr>
          <a:xfrm>
            <a:off x="1274760" y="152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ГОСУДАРСТВЕННЫЕ ДОЛЖ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СВЕРДЛОВСКОЙ ОБЛА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1" name="Прямоугольник 8"/>
          <p:cNvGrpSpPr/>
          <p:nvPr/>
        </p:nvGrpSpPr>
        <p:grpSpPr>
          <a:xfrm>
            <a:off x="85680" y="1268280"/>
            <a:ext cx="3998880" cy="1047960"/>
            <a:chOff x="85680" y="1268280"/>
            <a:chExt cx="3998880" cy="1047960"/>
          </a:xfrm>
        </p:grpSpPr>
        <p:pic>
          <p:nvPicPr>
            <p:cNvPr id="8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5680" y="1268280"/>
              <a:ext cx="399888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250920" y="1409760"/>
              <a:ext cx="3668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ОПРОСЫ, РАССМОТРЕННЫЕ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НА ЗАСЕДАНИИ  РАБОЧЕЙ ГРУППЫ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4" name="Прямая соединительная линия 13"/>
          <p:cNvSpPr/>
          <p:nvPr/>
        </p:nvSpPr>
        <p:spPr>
          <a:xfrm>
            <a:off x="4140360" y="1943280"/>
            <a:ext cx="0" cy="48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5" name="Прямоугольник 15"/>
          <p:cNvGrpSpPr/>
          <p:nvPr/>
        </p:nvGrpSpPr>
        <p:grpSpPr>
          <a:xfrm>
            <a:off x="85680" y="2090880"/>
            <a:ext cx="3998880" cy="1042920"/>
            <a:chOff x="85680" y="2090880"/>
            <a:chExt cx="3998880" cy="1042920"/>
          </a:xfrm>
        </p:grpSpPr>
        <p:pic>
          <p:nvPicPr>
            <p:cNvPr id="876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85680" y="2090880"/>
              <a:ext cx="3998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50920" y="2228760"/>
              <a:ext cx="3668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обращений о даче согласия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 замещение должности в коммерческой организац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78" name="Прямоугольник 16"/>
          <p:cNvGrpSpPr/>
          <p:nvPr/>
        </p:nvGrpSpPr>
        <p:grpSpPr>
          <a:xfrm>
            <a:off x="109440" y="5022720"/>
            <a:ext cx="3998880" cy="1043280"/>
            <a:chOff x="109440" y="5022720"/>
            <a:chExt cx="3998880" cy="1043280"/>
          </a:xfrm>
        </p:grpSpPr>
        <p:pic>
          <p:nvPicPr>
            <p:cNvPr id="879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109440" y="5022720"/>
              <a:ext cx="399888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77920" y="5162400"/>
              <a:ext cx="36669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уведомление о возможности возникновения конфликта интересов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1" name="Прямоугольник 17"/>
          <p:cNvGrpSpPr/>
          <p:nvPr/>
        </p:nvGrpSpPr>
        <p:grpSpPr>
          <a:xfrm>
            <a:off x="109440" y="3949560"/>
            <a:ext cx="3998880" cy="1341720"/>
            <a:chOff x="109440" y="3949560"/>
            <a:chExt cx="3998880" cy="1341720"/>
          </a:xfrm>
        </p:grpSpPr>
        <p:pic>
          <p:nvPicPr>
            <p:cNvPr id="882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109440" y="3949560"/>
              <a:ext cx="3998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77920" y="4092480"/>
              <a:ext cx="366696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материала проверок достоверности и полноты сведений о доходах, расходах, об имуществе и обязательствах имущественного характера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4" name="Прямоугольник 18"/>
          <p:cNvGrpSpPr/>
          <p:nvPr/>
        </p:nvGrpSpPr>
        <p:grpSpPr>
          <a:xfrm>
            <a:off x="85680" y="2925720"/>
            <a:ext cx="3998880" cy="1281240"/>
            <a:chOff x="85680" y="2925720"/>
            <a:chExt cx="3998880" cy="1281240"/>
          </a:xfrm>
        </p:grpSpPr>
        <p:pic>
          <p:nvPicPr>
            <p:cNvPr id="885" name="Прямоугольник 18" descr=""/>
            <p:cNvPicPr/>
            <p:nvPr/>
          </p:nvPicPr>
          <p:blipFill>
            <a:blip r:embed="rId6"/>
            <a:stretch/>
          </p:blipFill>
          <p:spPr>
            <a:xfrm>
              <a:off x="85680" y="2925720"/>
              <a:ext cx="399888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250920" y="3068640"/>
              <a:ext cx="36687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уведомление  работодателя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о заключении трудового договора  с лицом, замещавшим ранее государственную должность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87" name="Прямоугольник 19"/>
          <p:cNvGrpSpPr/>
          <p:nvPr/>
        </p:nvGrpSpPr>
        <p:grpSpPr>
          <a:xfrm>
            <a:off x="152280" y="5827680"/>
            <a:ext cx="3932280" cy="1049400"/>
            <a:chOff x="152280" y="5827680"/>
            <a:chExt cx="3932280" cy="1049400"/>
          </a:xfrm>
        </p:grpSpPr>
        <p:pic>
          <p:nvPicPr>
            <p:cNvPr id="888" name="Прямоугольник 19" descr=""/>
            <p:cNvPicPr/>
            <p:nvPr/>
          </p:nvPicPr>
          <p:blipFill>
            <a:blip r:embed="rId7"/>
            <a:stretch/>
          </p:blipFill>
          <p:spPr>
            <a:xfrm>
              <a:off x="152280" y="5827680"/>
              <a:ext cx="39322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318960" y="5969160"/>
              <a:ext cx="36007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материал о несоблюдении требований к служебному поведению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0" name="Скругленный прямоугольник 20"/>
          <p:cNvGrpSpPr/>
          <p:nvPr/>
        </p:nvGrpSpPr>
        <p:grpSpPr>
          <a:xfrm>
            <a:off x="4157640" y="1200240"/>
            <a:ext cx="4913280" cy="1122120"/>
            <a:chOff x="4157640" y="1200240"/>
            <a:chExt cx="4913280" cy="1122120"/>
          </a:xfrm>
        </p:grpSpPr>
        <p:pic>
          <p:nvPicPr>
            <p:cNvPr id="891" name="Скругленный прямоугольник 20" descr=""/>
            <p:cNvPicPr/>
            <p:nvPr/>
          </p:nvPicPr>
          <p:blipFill>
            <a:blip r:embed="rId8"/>
            <a:stretch/>
          </p:blipFill>
          <p:spPr>
            <a:xfrm>
              <a:off x="4157640" y="1200240"/>
              <a:ext cx="4913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390920" y="1417680"/>
              <a:ext cx="44434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МЕРЫ,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ПРИНЯТЫЕ ПО РЕКОМЕНДАЦИЯМ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РАБОЧЕЙ ГРУППЫ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3" name="Скругленный прямоугольник 21"/>
          <p:cNvGrpSpPr/>
          <p:nvPr/>
        </p:nvGrpSpPr>
        <p:grpSpPr>
          <a:xfrm>
            <a:off x="4157640" y="2084400"/>
            <a:ext cx="4962600" cy="1201680"/>
            <a:chOff x="4157640" y="2084400"/>
            <a:chExt cx="4962600" cy="1201680"/>
          </a:xfrm>
        </p:grpSpPr>
        <p:pic>
          <p:nvPicPr>
            <p:cNvPr id="894" name="Скругленный прямоугольник 21" descr=""/>
            <p:cNvPicPr/>
            <p:nvPr/>
          </p:nvPicPr>
          <p:blipFill>
            <a:blip r:embed="rId9"/>
            <a:stretch/>
          </p:blipFill>
          <p:spPr>
            <a:xfrm>
              <a:off x="4157640" y="2084400"/>
              <a:ext cx="496260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394160" y="2309760"/>
              <a:ext cx="44863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8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гражданам, замещавшим государственные должности Свердловской области, дано согласие на замещение должности в коммерческой организац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6" name="Скругленный прямоугольник 22"/>
          <p:cNvGrpSpPr/>
          <p:nvPr/>
        </p:nvGrpSpPr>
        <p:grpSpPr>
          <a:xfrm>
            <a:off x="4157640" y="3011400"/>
            <a:ext cx="5052960" cy="1359000"/>
            <a:chOff x="4157640" y="3011400"/>
            <a:chExt cx="5052960" cy="1359000"/>
          </a:xfrm>
        </p:grpSpPr>
        <p:pic>
          <p:nvPicPr>
            <p:cNvPr id="897" name="Скругленный прямоугольник 22" descr=""/>
            <p:cNvPicPr/>
            <p:nvPr/>
          </p:nvPicPr>
          <p:blipFill>
            <a:blip r:embed="rId10"/>
            <a:stretch/>
          </p:blipFill>
          <p:spPr>
            <a:xfrm>
              <a:off x="4157640" y="3011400"/>
              <a:ext cx="505296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4402080" y="3240000"/>
              <a:ext cx="45594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лицам указано на недопустимость нарушения требований законодательства Российской Федерации о противодействии коррупци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899" name="Скругленный прямоугольник 23"/>
          <p:cNvGrpSpPr/>
          <p:nvPr/>
        </p:nvGrpSpPr>
        <p:grpSpPr>
          <a:xfrm>
            <a:off x="4084560" y="4005360"/>
            <a:ext cx="5052960" cy="1877760"/>
            <a:chOff x="4084560" y="4005360"/>
            <a:chExt cx="5052960" cy="1877760"/>
          </a:xfrm>
        </p:grpSpPr>
        <p:pic>
          <p:nvPicPr>
            <p:cNvPr id="900" name="Скругленный прямоугольник 23" descr=""/>
            <p:cNvPicPr/>
            <p:nvPr/>
          </p:nvPicPr>
          <p:blipFill>
            <a:blip r:embed="rId11"/>
            <a:stretch/>
          </p:blipFill>
          <p:spPr>
            <a:xfrm>
              <a:off x="4084560" y="4005360"/>
              <a:ext cx="5052960" cy="18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4359240" y="4259160"/>
              <a:ext cx="4506840" cy="13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Calibri"/>
                </a:rPr>
                <a:t>1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Calibri"/>
                </a:rPr>
                <a:t>лицу рекомендовано в целях недопущения конфликта интересов возложить полномочия по принятию решений в отношении акционерного общества, в котором его сын занимает должность начальника правления, на первого заместителя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02" name="Скругленный прямоугольник 25"/>
          <p:cNvGrpSpPr/>
          <p:nvPr/>
        </p:nvGrpSpPr>
        <p:grpSpPr>
          <a:xfrm>
            <a:off x="4175280" y="5675400"/>
            <a:ext cx="5054400" cy="1305000"/>
            <a:chOff x="4175280" y="5675400"/>
            <a:chExt cx="5054400" cy="1305000"/>
          </a:xfrm>
        </p:grpSpPr>
        <p:pic>
          <p:nvPicPr>
            <p:cNvPr id="903" name="Скругленный прямоугольник 25" descr=""/>
            <p:cNvPicPr/>
            <p:nvPr/>
          </p:nvPicPr>
          <p:blipFill>
            <a:blip r:embed="rId12"/>
            <a:stretch/>
          </p:blipFill>
          <p:spPr>
            <a:xfrm>
              <a:off x="4175280" y="5675400"/>
              <a:ext cx="50544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4422600" y="5900760"/>
              <a:ext cx="45626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в отношении </a:t>
              </a:r>
              <a:r>
                <a:rPr b="1" i="1" lang="ru-RU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лица применена мера дисциплинарного взыскания в виде выговора за несоблюдение требований к должностному поведению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6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907" name="Прямая соединительная линия 2"/>
          <p:cNvSpPr/>
          <p:nvPr/>
        </p:nvSpPr>
        <p:spPr>
          <a:xfrm>
            <a:off x="1662120" y="105264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Прямая соединительная линия 11"/>
          <p:cNvSpPr/>
          <p:nvPr/>
        </p:nvSpPr>
        <p:spPr>
          <a:xfrm>
            <a:off x="1681200" y="119700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Заголовок 1"/>
          <p:cNvSpPr/>
          <p:nvPr/>
        </p:nvSpPr>
        <p:spPr>
          <a:xfrm>
            <a:off x="1325520" y="255600"/>
            <a:ext cx="7842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0" name="Скругленный прямоугольник 9"/>
          <p:cNvGrpSpPr/>
          <p:nvPr/>
        </p:nvGrpSpPr>
        <p:grpSpPr>
          <a:xfrm>
            <a:off x="2017800" y="1262160"/>
            <a:ext cx="5681520" cy="1146240"/>
            <a:chOff x="2017800" y="1262160"/>
            <a:chExt cx="5681520" cy="1146240"/>
          </a:xfrm>
        </p:grpSpPr>
        <p:pic>
          <p:nvPicPr>
            <p:cNvPr id="911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2017800" y="1262160"/>
              <a:ext cx="56815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2127240" y="1349280"/>
              <a:ext cx="5446800" cy="8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РУКОВОДИТЕЛЬ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Губернатора Свердловской области – Руководитель Аппара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3" name="Скругленный прямоугольник 12"/>
          <p:cNvGrpSpPr/>
          <p:nvPr/>
        </p:nvGrpSpPr>
        <p:grpSpPr>
          <a:xfrm>
            <a:off x="407880" y="2389320"/>
            <a:ext cx="3726000" cy="1542960"/>
            <a:chOff x="407880" y="2389320"/>
            <a:chExt cx="3726000" cy="1542960"/>
          </a:xfrm>
        </p:grpSpPr>
        <p:pic>
          <p:nvPicPr>
            <p:cNvPr id="914" name="Скругленный 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407880" y="2389320"/>
              <a:ext cx="37260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534960" y="2502000"/>
              <a:ext cx="346860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МЕСТИТЕЛЬ РУКОВОДИТЕЛЯ РАБОЧЕЙ ГРУППЫ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Директор Департамента кадровой политики и контроля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6" name="Скругленный прямоугольник 13"/>
          <p:cNvGrpSpPr/>
          <p:nvPr/>
        </p:nvGrpSpPr>
        <p:grpSpPr>
          <a:xfrm>
            <a:off x="6669000" y="4211640"/>
            <a:ext cx="2378160" cy="1030320"/>
            <a:chOff x="6669000" y="4211640"/>
            <a:chExt cx="2378160" cy="1030320"/>
          </a:xfrm>
        </p:grpSpPr>
        <p:pic>
          <p:nvPicPr>
            <p:cNvPr id="917" name="Скругленный 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6669000" y="4211640"/>
              <a:ext cx="2378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6772320" y="4299120"/>
              <a:ext cx="213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инистр общественной безопасности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9" name="Скругленный прямоугольник 15"/>
          <p:cNvGrpSpPr/>
          <p:nvPr/>
        </p:nvGrpSpPr>
        <p:grpSpPr>
          <a:xfrm>
            <a:off x="146160" y="4853160"/>
            <a:ext cx="2359080" cy="1590480"/>
            <a:chOff x="146160" y="4853160"/>
            <a:chExt cx="2359080" cy="1590480"/>
          </a:xfrm>
        </p:grpSpPr>
        <p:pic>
          <p:nvPicPr>
            <p:cNvPr id="920" name="Скругленный 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146160" y="4853160"/>
              <a:ext cx="23590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276120" y="4964040"/>
              <a:ext cx="209736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ервый заместитель Руководителя Аппара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2" name="Скругленный прямоугольник 16"/>
          <p:cNvGrpSpPr/>
          <p:nvPr/>
        </p:nvGrpSpPr>
        <p:grpSpPr>
          <a:xfrm>
            <a:off x="2639880" y="4681440"/>
            <a:ext cx="3803760" cy="1878120"/>
            <a:chOff x="2639880" y="4681440"/>
            <a:chExt cx="3803760" cy="1878120"/>
          </a:xfrm>
        </p:grpSpPr>
        <p:pic>
          <p:nvPicPr>
            <p:cNvPr id="923" name="Скругленный прямоугольник 16" descr=""/>
            <p:cNvPicPr/>
            <p:nvPr/>
          </p:nvPicPr>
          <p:blipFill>
            <a:blip r:embed="rId6"/>
            <a:stretch/>
          </p:blipFill>
          <p:spPr>
            <a:xfrm>
              <a:off x="2639880" y="4681440"/>
              <a:ext cx="380376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2786040" y="4809960"/>
              <a:ext cx="351324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Руководителя Аппара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 </a:t>
              </a: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Директор Государственно-правового департамента Губернатора Свердловской области и Правительства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5" name="Скругленный прямоугольник 17"/>
          <p:cNvGrpSpPr/>
          <p:nvPr/>
        </p:nvGrpSpPr>
        <p:grpSpPr>
          <a:xfrm>
            <a:off x="2719440" y="3913200"/>
            <a:ext cx="3724200" cy="774720"/>
            <a:chOff x="2719440" y="3913200"/>
            <a:chExt cx="3724200" cy="774720"/>
          </a:xfrm>
        </p:grpSpPr>
        <p:pic>
          <p:nvPicPr>
            <p:cNvPr id="926" name="Скругленный прямоугольник 17" descr=""/>
            <p:cNvPicPr/>
            <p:nvPr/>
          </p:nvPicPr>
          <p:blipFill>
            <a:blip r:embed="rId7"/>
            <a:stretch/>
          </p:blipFill>
          <p:spPr>
            <a:xfrm>
              <a:off x="2719440" y="3913200"/>
              <a:ext cx="3724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2813040" y="3990960"/>
              <a:ext cx="35402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ЧЛЕНЫ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8" name="Скругленный прямоугольник 18"/>
          <p:cNvGrpSpPr/>
          <p:nvPr/>
        </p:nvGrpSpPr>
        <p:grpSpPr>
          <a:xfrm>
            <a:off x="4363920" y="2382840"/>
            <a:ext cx="4445280" cy="1560600"/>
            <a:chOff x="4363920" y="2382840"/>
            <a:chExt cx="4445280" cy="1560600"/>
          </a:xfrm>
        </p:grpSpPr>
        <p:pic>
          <p:nvPicPr>
            <p:cNvPr id="929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4363920" y="2382840"/>
              <a:ext cx="44452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4495680" y="2495520"/>
              <a:ext cx="418320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СЕКРЕТАРЬ РАБОЧЕЙ ГРУПП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меститель директора Департамента кадровой политики и контроля Губернатора Свердловской области и Правительства Свердловской области – начальник управления по профилактике коррупционных и иных правонарушений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1" name="Прямоугольник 1"/>
          <p:cNvSpPr/>
          <p:nvPr/>
        </p:nvSpPr>
        <p:spPr>
          <a:xfrm>
            <a:off x="1547640" y="255600"/>
            <a:ext cx="747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МУНИЦИПАЛЬНЫЕ ДОЛЖНОСТ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2" name="Скругленный прямоугольник 19"/>
          <p:cNvGrpSpPr/>
          <p:nvPr/>
        </p:nvGrpSpPr>
        <p:grpSpPr>
          <a:xfrm>
            <a:off x="6711840" y="5267160"/>
            <a:ext cx="2346480" cy="1378080"/>
            <a:chOff x="6711840" y="5267160"/>
            <a:chExt cx="2346480" cy="1378080"/>
          </a:xfrm>
        </p:grpSpPr>
        <p:pic>
          <p:nvPicPr>
            <p:cNvPr id="933" name="Скругленный прямоугольник 19" descr=""/>
            <p:cNvPicPr/>
            <p:nvPr/>
          </p:nvPicPr>
          <p:blipFill>
            <a:blip r:embed="rId9"/>
            <a:stretch/>
          </p:blipFill>
          <p:spPr>
            <a:xfrm>
              <a:off x="6711840" y="5267160"/>
              <a:ext cx="234648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829560" y="5369040"/>
              <a:ext cx="21114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полномоченный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о защите прав предпринимателей </a:t>
              </a:r>
              <a:br>
                <a:rPr sz="1400"/>
              </a:b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в Свердловской област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6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937" name="Прямая соединительная линия 2"/>
          <p:cNvSpPr/>
          <p:nvPr/>
        </p:nvSpPr>
        <p:spPr>
          <a:xfrm>
            <a:off x="1692360" y="90792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Прямая соединительная линия 11"/>
          <p:cNvSpPr/>
          <p:nvPr/>
        </p:nvSpPr>
        <p:spPr>
          <a:xfrm>
            <a:off x="1692360" y="98100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Прямоугольник 1"/>
          <p:cNvSpPr/>
          <p:nvPr/>
        </p:nvSpPr>
        <p:spPr>
          <a:xfrm>
            <a:off x="1547640" y="28440"/>
            <a:ext cx="720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МУНИЦИПАЛЬНЫЕ ДОЛЖНОСТ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1" name="Овал 3"/>
          <p:cNvGrpSpPr/>
          <p:nvPr/>
        </p:nvGrpSpPr>
        <p:grpSpPr>
          <a:xfrm>
            <a:off x="3144960" y="2023920"/>
            <a:ext cx="2712960" cy="2133720"/>
            <a:chOff x="3144960" y="2023920"/>
            <a:chExt cx="2712960" cy="2133720"/>
          </a:xfrm>
        </p:grpSpPr>
        <p:pic>
          <p:nvPicPr>
            <p:cNvPr id="942" name="Овал 3" descr=""/>
            <p:cNvPicPr/>
            <p:nvPr/>
          </p:nvPicPr>
          <p:blipFill>
            <a:blip r:embed="rId2"/>
            <a:stretch/>
          </p:blipFill>
          <p:spPr>
            <a:xfrm>
              <a:off x="3144960" y="2023920"/>
              <a:ext cx="27129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3583080" y="2359080"/>
              <a:ext cx="183348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1603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лица, замещающих муниципальные должност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44" name="Овал 4"/>
          <p:cNvGrpSpPr/>
          <p:nvPr/>
        </p:nvGrpSpPr>
        <p:grpSpPr>
          <a:xfrm>
            <a:off x="1017720" y="1030320"/>
            <a:ext cx="2573280" cy="1352520"/>
            <a:chOff x="1017720" y="1030320"/>
            <a:chExt cx="2573280" cy="1352520"/>
          </a:xfrm>
        </p:grpSpPr>
        <p:pic>
          <p:nvPicPr>
            <p:cNvPr id="945" name="Овал 4" descr=""/>
            <p:cNvPicPr/>
            <p:nvPr/>
          </p:nvPicPr>
          <p:blipFill>
            <a:blip r:embed="rId3"/>
            <a:stretch/>
          </p:blipFill>
          <p:spPr>
            <a:xfrm>
              <a:off x="1017720" y="1030320"/>
              <a:ext cx="257328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1413000" y="1249200"/>
              <a:ext cx="1780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94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главы муниципальных образован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7" name="Овал 12"/>
          <p:cNvSpPr/>
          <p:nvPr/>
        </p:nvSpPr>
        <p:spPr>
          <a:xfrm>
            <a:off x="6141960" y="2844720"/>
            <a:ext cx="3002040" cy="1295640"/>
          </a:xfrm>
          <a:prstGeom prst="ellipse">
            <a:avLst/>
          </a:prstGeom>
          <a:solidFill>
            <a:srgbClr val="e2c0e2"/>
          </a:solidFill>
          <a:ln w="25560">
            <a:solidFill>
              <a:srgbClr val="e2c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лен местных избирательных комисс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8" name="Овал 13"/>
          <p:cNvGrpSpPr/>
          <p:nvPr/>
        </p:nvGrpSpPr>
        <p:grpSpPr>
          <a:xfrm>
            <a:off x="139680" y="2664000"/>
            <a:ext cx="2579760" cy="1347480"/>
            <a:chOff x="139680" y="2664000"/>
            <a:chExt cx="2579760" cy="1347480"/>
          </a:xfrm>
        </p:grpSpPr>
        <p:pic>
          <p:nvPicPr>
            <p:cNvPr id="949" name="Овал 13" descr=""/>
            <p:cNvPicPr/>
            <p:nvPr/>
          </p:nvPicPr>
          <p:blipFill>
            <a:blip r:embed="rId4"/>
            <a:stretch/>
          </p:blipFill>
          <p:spPr>
            <a:xfrm>
              <a:off x="139680" y="2664000"/>
              <a:ext cx="257976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539640" y="2879640"/>
              <a:ext cx="17827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глав местных администрац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1" name="Овал 15"/>
          <p:cNvGrpSpPr/>
          <p:nvPr/>
        </p:nvGrpSpPr>
        <p:grpSpPr>
          <a:xfrm>
            <a:off x="5121360" y="1030320"/>
            <a:ext cx="2863800" cy="1352520"/>
            <a:chOff x="5121360" y="1030320"/>
            <a:chExt cx="2863800" cy="1352520"/>
          </a:xfrm>
        </p:grpSpPr>
        <p:pic>
          <p:nvPicPr>
            <p:cNvPr id="952" name="Овал 15" descr=""/>
            <p:cNvPicPr/>
            <p:nvPr/>
          </p:nvPicPr>
          <p:blipFill>
            <a:blip r:embed="rId5"/>
            <a:stretch/>
          </p:blipFill>
          <p:spPr>
            <a:xfrm>
              <a:off x="5121360" y="1030320"/>
              <a:ext cx="2863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5559480" y="1249200"/>
              <a:ext cx="198576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Times New Roman"/>
                </a:rPr>
                <a:t>1483 </a:t>
              </a: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депутата представительных органов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4" name="Стрелка вправо 5"/>
          <p:cNvGrpSpPr/>
          <p:nvPr/>
        </p:nvGrpSpPr>
        <p:grpSpPr>
          <a:xfrm>
            <a:off x="2597040" y="2030400"/>
            <a:ext cx="889200" cy="888840"/>
            <a:chOff x="2597040" y="2030400"/>
            <a:chExt cx="889200" cy="888840"/>
          </a:xfrm>
        </p:grpSpPr>
        <p:pic>
          <p:nvPicPr>
            <p:cNvPr id="955" name="Стрелка вправо 5" descr=""/>
            <p:cNvPicPr/>
            <p:nvPr/>
          </p:nvPicPr>
          <p:blipFill>
            <a:blip r:embed="rId6"/>
            <a:stretch/>
          </p:blipFill>
          <p:spPr>
            <a:xfrm>
              <a:off x="2597040" y="2030400"/>
              <a:ext cx="88920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 rot="13327200">
              <a:off x="2860560" y="2386080"/>
              <a:ext cx="46224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57" name="Стрелка вправо 19"/>
          <p:cNvGrpSpPr/>
          <p:nvPr/>
        </p:nvGrpSpPr>
        <p:grpSpPr>
          <a:xfrm>
            <a:off x="5589720" y="3054240"/>
            <a:ext cx="853920" cy="835200"/>
            <a:chOff x="5589720" y="3054240"/>
            <a:chExt cx="853920" cy="835200"/>
          </a:xfrm>
        </p:grpSpPr>
        <p:pic>
          <p:nvPicPr>
            <p:cNvPr id="958" name="Стрелка вправо 19" descr=""/>
            <p:cNvPicPr/>
            <p:nvPr/>
          </p:nvPicPr>
          <p:blipFill>
            <a:blip r:embed="rId7"/>
            <a:stretch/>
          </p:blipFill>
          <p:spPr>
            <a:xfrm>
              <a:off x="5589720" y="3054240"/>
              <a:ext cx="8539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 rot="1570200">
              <a:off x="5722560" y="3308400"/>
              <a:ext cx="461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0" name="Стрелка вправо 20"/>
          <p:cNvGrpSpPr/>
          <p:nvPr/>
        </p:nvGrpSpPr>
        <p:grpSpPr>
          <a:xfrm>
            <a:off x="2577960" y="2901960"/>
            <a:ext cx="787680" cy="755640"/>
            <a:chOff x="2577960" y="2901960"/>
            <a:chExt cx="787680" cy="755640"/>
          </a:xfrm>
        </p:grpSpPr>
        <p:pic>
          <p:nvPicPr>
            <p:cNvPr id="961" name="Стрелка вправо 20" descr=""/>
            <p:cNvPicPr/>
            <p:nvPr/>
          </p:nvPicPr>
          <p:blipFill>
            <a:blip r:embed="rId8"/>
            <a:stretch/>
          </p:blipFill>
          <p:spPr>
            <a:xfrm>
              <a:off x="2577960" y="2901960"/>
              <a:ext cx="787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 rot="9949800">
              <a:off x="2806200" y="3129120"/>
              <a:ext cx="46224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3" name="Стрелка вправо 21"/>
          <p:cNvGrpSpPr/>
          <p:nvPr/>
        </p:nvGrpSpPr>
        <p:grpSpPr>
          <a:xfrm>
            <a:off x="5419800" y="2011320"/>
            <a:ext cx="888840" cy="897120"/>
            <a:chOff x="5419800" y="2011320"/>
            <a:chExt cx="888840" cy="897120"/>
          </a:xfrm>
        </p:grpSpPr>
        <p:pic>
          <p:nvPicPr>
            <p:cNvPr id="964" name="Стрелка вправо 21" descr=""/>
            <p:cNvPicPr/>
            <p:nvPr/>
          </p:nvPicPr>
          <p:blipFill>
            <a:blip r:embed="rId9"/>
            <a:stretch/>
          </p:blipFill>
          <p:spPr>
            <a:xfrm>
              <a:off x="5419800" y="2011320"/>
              <a:ext cx="888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 rot="18979200">
              <a:off x="5582880" y="2374920"/>
              <a:ext cx="4618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6" name="Прямоугольник 6"/>
          <p:cNvSpPr/>
          <p:nvPr/>
        </p:nvSpPr>
        <p:spPr>
          <a:xfrm>
            <a:off x="395280" y="4292640"/>
            <a:ext cx="83502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6-2018 годах проведен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седаний, из них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44928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6 год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седаний, рассмотрены материалы в отношени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ц, замещающих муниципальные долж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44928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7 году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седаний, рассмотрены материалы в отношени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ц, замещающих муниципальные должн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44928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8 год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седаний, рассмотрены материалы в отношени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ица, замещающего муниципальные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67" name="Прямая со стрелкой 3"/>
          <p:cNvCxnSpPr/>
          <p:nvPr/>
        </p:nvCxnSpPr>
        <p:spPr>
          <a:xfrm flipV="1">
            <a:off x="5724000" y="3415680"/>
            <a:ext cx="515160" cy="2293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968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9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970" name="Прямая соединительная линия 2"/>
          <p:cNvSpPr/>
          <p:nvPr/>
        </p:nvSpPr>
        <p:spPr>
          <a:xfrm>
            <a:off x="1670040" y="105264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Прямая соединительная линия 11"/>
          <p:cNvSpPr/>
          <p:nvPr/>
        </p:nvSpPr>
        <p:spPr>
          <a:xfrm>
            <a:off x="1670040" y="113976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Заголовок 1"/>
          <p:cNvSpPr/>
          <p:nvPr/>
        </p:nvSpPr>
        <p:spPr>
          <a:xfrm>
            <a:off x="1235160" y="1936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МУНИЦИПАЛЬНЫЕ ДОЛЖ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Овал 8"/>
          <p:cNvSpPr/>
          <p:nvPr/>
        </p:nvSpPr>
        <p:spPr>
          <a:xfrm>
            <a:off x="3220920" y="3146400"/>
            <a:ext cx="2603520" cy="1449360"/>
          </a:xfrm>
          <a:prstGeom prst="ellipse">
            <a:avLst/>
          </a:prstGeom>
          <a:solidFill>
            <a:srgbClr val="70f49c"/>
          </a:soli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 2016-2018 годах рассмотре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4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материа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Овал 9"/>
          <p:cNvSpPr/>
          <p:nvPr/>
        </p:nvSpPr>
        <p:spPr>
          <a:xfrm>
            <a:off x="6153120" y="4309920"/>
            <a:ext cx="2879640" cy="136872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риала проверок достоверности </a:t>
            </a:r>
            <a:br>
              <a:rPr sz="1500"/>
            </a:b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полноты сведений </a:t>
            </a:r>
            <a:br>
              <a:rPr sz="1500"/>
            </a:b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доход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Овал 12"/>
          <p:cNvSpPr/>
          <p:nvPr/>
        </p:nvSpPr>
        <p:spPr>
          <a:xfrm>
            <a:off x="2960640" y="4869000"/>
            <a:ext cx="3367080" cy="182232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материал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несоблюдении иных ограничений, запрет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обязанностей, установленных в целях противодействия корруп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Овал 13"/>
          <p:cNvSpPr/>
          <p:nvPr/>
        </p:nvSpPr>
        <p:spPr>
          <a:xfrm>
            <a:off x="44280" y="4768920"/>
            <a:ext cx="2603520" cy="144756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</a:t>
            </a:r>
            <a:r>
              <a:rPr b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риала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неуведомлении </a:t>
            </a:r>
            <a:br>
              <a:rPr sz="1500"/>
            </a:br>
            <a:r>
              <a:rPr b="1" lang="ru-RU" sz="15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конфликте интерес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Овал 15"/>
          <p:cNvSpPr/>
          <p:nvPr/>
        </p:nvSpPr>
        <p:spPr>
          <a:xfrm>
            <a:off x="6095880" y="2182680"/>
            <a:ext cx="2773440" cy="168912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ведомлений о возможности возникновения конфликта интере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Овал 16"/>
          <p:cNvSpPr/>
          <p:nvPr/>
        </p:nvSpPr>
        <p:spPr>
          <a:xfrm>
            <a:off x="20520" y="2630520"/>
            <a:ext cx="2951280" cy="179856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риа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результатах контрол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расхода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Овал 17"/>
          <p:cNvSpPr/>
          <p:nvPr/>
        </p:nvSpPr>
        <p:spPr>
          <a:xfrm>
            <a:off x="2266920" y="1208160"/>
            <a:ext cx="3971880" cy="1700280"/>
          </a:xfrm>
          <a:prstGeom prst="ellipse">
            <a:avLst/>
          </a:prstGeom>
          <a:gradFill rotWithShape="0">
            <a:gsLst>
              <a:gs pos="0">
                <a:srgbClr val="c3ffe8"/>
              </a:gs>
              <a:gs pos="100000">
                <a:srgbClr val="edfff8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явлений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невозможности представить сведения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 доходах супруга (супруги) и несовершеннолетних дете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81" name="Прямая со стрелкой 19"/>
          <p:cNvCxnSpPr/>
          <p:nvPr/>
        </p:nvCxnSpPr>
        <p:spPr>
          <a:xfrm flipH="1" flipV="1">
            <a:off x="4355280" y="2908080"/>
            <a:ext cx="1080" cy="30528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82" name="Прямая со стрелкой 25"/>
          <p:cNvCxnSpPr>
            <a:stCxn id="974" idx="2"/>
          </p:cNvCxnSpPr>
          <p:nvPr/>
        </p:nvCxnSpPr>
        <p:spPr>
          <a:xfrm flipH="1" flipV="1">
            <a:off x="2842560" y="3871080"/>
            <a:ext cx="378360" cy="108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83" name="Прямая со стрелкой 27"/>
          <p:cNvCxnSpPr>
            <a:stCxn id="974" idx="5"/>
            <a:endCxn id="975" idx="1"/>
          </p:cNvCxnSpPr>
          <p:nvPr/>
        </p:nvCxnSpPr>
        <p:spPr>
          <a:xfrm>
            <a:off x="5443560" y="4384800"/>
            <a:ext cx="1131120" cy="1274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84" name="Прямая со стрелкой 30"/>
          <p:cNvCxnSpPr>
            <a:stCxn id="974" idx="3"/>
            <a:endCxn id="977" idx="0"/>
          </p:cNvCxnSpPr>
          <p:nvPr/>
        </p:nvCxnSpPr>
        <p:spPr>
          <a:xfrm flipH="1">
            <a:off x="1345320" y="4384440"/>
            <a:ext cx="2256840" cy="38484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  <p:cxnSp>
        <p:nvCxnSpPr>
          <p:cNvPr id="985" name="Прямая со стрелкой 2049"/>
          <p:cNvCxnSpPr>
            <a:endCxn id="976" idx="0"/>
          </p:cNvCxnSpPr>
          <p:nvPr/>
        </p:nvCxnSpPr>
        <p:spPr>
          <a:xfrm>
            <a:off x="4642920" y="4599000"/>
            <a:ext cx="1080" cy="270720"/>
          </a:xfrm>
          <a:prstGeom prst="straightConnector1">
            <a:avLst/>
          </a:prstGeom>
          <a:ln w="25560">
            <a:solidFill>
              <a:srgbClr val="00cc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рямоугольник 6"/>
          <p:cNvSpPr/>
          <p:nvPr/>
        </p:nvSpPr>
        <p:spPr>
          <a:xfrm>
            <a:off x="784080" y="1844640"/>
            <a:ext cx="808524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Picture 5" descr="gerb"/>
          <p:cNvPicPr/>
          <p:nvPr/>
        </p:nvPicPr>
        <p:blipFill>
          <a:blip r:embed="rId1"/>
          <a:stretch/>
        </p:blipFill>
        <p:spPr>
          <a:xfrm>
            <a:off x="20520" y="115920"/>
            <a:ext cx="1527120" cy="1185840"/>
          </a:xfrm>
          <a:prstGeom prst="rect">
            <a:avLst/>
          </a:prstGeom>
          <a:ln w="0">
            <a:noFill/>
          </a:ln>
        </p:spPr>
      </p:pic>
      <p:sp>
        <p:nvSpPr>
          <p:cNvPr id="988" name="Прямая соединительная линия 2"/>
          <p:cNvSpPr/>
          <p:nvPr/>
        </p:nvSpPr>
        <p:spPr>
          <a:xfrm>
            <a:off x="1692360" y="907920"/>
            <a:ext cx="7337520" cy="0"/>
          </a:xfrm>
          <a:prstGeom prst="line">
            <a:avLst/>
          </a:prstGeom>
          <a:ln cap="rnd" w="41400">
            <a:solidFill>
              <a:srgbClr val="0b4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Прямоугольник 10"/>
          <p:cNvSpPr/>
          <p:nvPr/>
        </p:nvSpPr>
        <p:spPr>
          <a:xfrm>
            <a:off x="1920960" y="44290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Прямая соединительная линия 11"/>
          <p:cNvSpPr/>
          <p:nvPr/>
        </p:nvSpPr>
        <p:spPr>
          <a:xfrm>
            <a:off x="1692360" y="981000"/>
            <a:ext cx="7337520" cy="0"/>
          </a:xfrm>
          <a:prstGeom prst="line">
            <a:avLst/>
          </a:prstGeom>
          <a:ln cap="rnd"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Заголовок 1"/>
          <p:cNvSpPr/>
          <p:nvPr/>
        </p:nvSpPr>
        <p:spPr>
          <a:xfrm>
            <a:off x="1235160" y="11448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РАБОЧАЯ ГРУППА ПО РАССМОТРЕНИЮ ВОПРОСОВ, КАСАЮЩИХСЯ СОБЛЮДЕНИЯ ТРЕБОВАНИЙ К ДОЛЖНОСТНОМУ ПОВЕДЕНИЮ ЛИЦ, ЗАМЕЩАЮЩИХ МУНИЦИПАЛЬНЫЕ ДОЛЖ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2" name="Picture 2" descr="http://bryansknovosti.ru/wp-content/uploads/2018/06/image1495621245898_i1-768x576.jpg"/>
          <p:cNvPicPr/>
          <p:nvPr/>
        </p:nvPicPr>
        <p:blipFill>
          <a:blip r:embed="rId2"/>
          <a:stretch/>
        </p:blipFill>
        <p:spPr>
          <a:xfrm>
            <a:off x="900000" y="4456080"/>
            <a:ext cx="3081600" cy="23115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http://bryansknovosti.ru/wp-content/uploads/2018/10/48092e4b1db1609fd1ca4b8e77c9c970.jpg"/>
          <p:cNvPicPr/>
          <p:nvPr/>
        </p:nvPicPr>
        <p:blipFill>
          <a:blip r:embed="rId3"/>
          <a:stretch/>
        </p:blipFill>
        <p:spPr>
          <a:xfrm>
            <a:off x="5003640" y="4538520"/>
            <a:ext cx="3206880" cy="214632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1"/>
          <p:cNvSpPr/>
          <p:nvPr/>
        </p:nvSpPr>
        <p:spPr>
          <a:xfrm>
            <a:off x="468360" y="1844640"/>
            <a:ext cx="82072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6 году решениями представительных органов муниципальных образований применена мера ответственности в виде досрочного прекращения полномочий 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путатам; на основании личных заявлений лишены мандатов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путатов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7 году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путатов досрочно прекратили полномоч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решению представительного органа,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путатов подали в отставк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бственному желан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-285840" algn="just">
              <a:lnSpc>
                <a:spcPct val="11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2018 году досрочно прекращены полномочи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депутат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5" name="Скругленный прямоугольник 13"/>
          <p:cNvGrpSpPr/>
          <p:nvPr/>
        </p:nvGrpSpPr>
        <p:grpSpPr>
          <a:xfrm>
            <a:off x="1719360" y="944640"/>
            <a:ext cx="6742080" cy="987480"/>
            <a:chOff x="1719360" y="944640"/>
            <a:chExt cx="6742080" cy="987480"/>
          </a:xfrm>
        </p:grpSpPr>
        <p:pic>
          <p:nvPicPr>
            <p:cNvPr id="996" name="Скругленный 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1719360" y="944640"/>
              <a:ext cx="6742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1949400" y="1154160"/>
              <a:ext cx="62787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МЕРЫ, ПРИНЯТЫЕ ПО РЕКОМЕНДАЦИЯМ РАБОЧЕЙ ГРУППЫ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2:22:30Z</dcterms:created>
  <dc:creator>Елисеева Екатерина Викторовна</dc:creator>
  <dc:description/>
  <dc:language>en-US</dc:language>
  <cp:lastModifiedBy>Макаренкова </cp:lastModifiedBy>
  <cp:lastPrinted>2018-11-20T08:32:36Z</cp:lastPrinted>
  <dcterms:modified xsi:type="dcterms:W3CDTF">2018-11-20T08:42:49Z</dcterms:modified>
  <cp:revision>1056</cp:revision>
  <dc:subject/>
  <dc:title>Презентация PowerPoint</dc:title>
</cp:coreProperties>
</file>